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F9BA-9061-4158-BC34-CA5C0A59F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8EC6-7298-4F61-BABC-F3098E1E9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09CD-4063-420A-980F-AF21697D2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4048-F0D2-4E0C-B00E-C388A12CB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095D4-03B2-49EF-9213-5DC976E26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D0D33-A982-4FDD-B47E-DE7A98762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317A9-C852-4CAD-958A-CFD36CC90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D9774-CF1C-4D4E-B090-7E87E5A12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7B070-89A5-4498-883C-EA2299C74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E2B11-6703-41FF-B2DD-3AF092195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C3F64-7A75-45E8-BE35-FFB2AB29E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26B3-1B1C-4E7D-A197-3A8534FCD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5EA4A-497D-4BDA-8A18-710C68CE9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ADA53-0336-46A4-8840-05425433B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BC267-3BD9-481E-B89E-11CE82A4C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93915-AC4D-4DF2-BE4C-62FDD5023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57475-33AB-46CF-B343-16E7FA7EC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8520-BF8A-4E93-B198-82206AEB2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1754-E897-4130-A9AC-143781D8C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0B43-FFF4-4B62-8FD2-F00CCD10B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2FFA-476E-4AFA-9F4D-C0EEB0C70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48C7-C3BF-4F2B-95F6-6EBD94AB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5565-9C51-47A8-A962-E444D343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F3BC-C19B-4811-84A9-253B178E1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CC9E1-4468-4532-B4DD-40A7A123EBC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00200" y="1600200"/>
            <a:ext cx="6858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28A5F-C9E7-4F2C-BE02-2F504488CB6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0040"/>
              </a:buClr>
              <a:buFont typeface="Wingdings" charset="2"/>
              <a:buChar char="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flickr.com/photos/huntleylibrary" TargetMode="External"/><Relationship Id="rId3" Type="http://schemas.openxmlformats.org/officeDocument/2006/relationships/hyperlink" Target="http://www.flickr.com/photos/cctwebteam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2438280" y="685800"/>
            <a:ext cx="4648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622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FableHave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author: Brandon Mul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80880" y="2057400"/>
            <a:ext cx="2762280" cy="40924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5867280" y="3429000"/>
            <a:ext cx="2187720" cy="20066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3200400" y="2209680"/>
            <a:ext cx="21337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by: Cod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haracters and Description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h : courious, a good guy, easygoing,encouraging,and he’s sma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ndra : brave, smart easygoing, and always nervo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ircl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Setting</a:t>
            </a: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49400" y="1981080"/>
            <a:ext cx="380844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c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Fableha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ndparent’s ho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3327480" cy="49305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8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The Problem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ableHaven attacked and its up to Kendra to save it from the witch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5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5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The 1st main even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itch named Muriel puts a spell on Fablehav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st of the family gets chained to a w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riel tries to capture Kendra, but Kendra gets aw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77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4" dur="77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6" dur="77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8" dur="77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77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5" dur="77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7" dur="77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9" dur="77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77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6" dur="77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8" dur="77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0" dur="77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2nd main event</a:t>
            </a: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ndra destroys FableHaven with a tru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n Kendra comes back to FableHaven to see if Muriel was her old self ag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Author’s message</a:t>
            </a: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ways be bra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ver be a snoo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rd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520" y="837720"/>
            <a:ext cx="716256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Author’s Bibliography</a:t>
            </a: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460400" y="1981080"/>
            <a:ext cx="3700440" cy="370368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bleHaven 2 rise of the evening st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ip of the shadow plag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s of the dragon sanctu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ys to the Demon Pris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ng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World without Her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andy shop W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28600" y="380880"/>
            <a:ext cx="1882800" cy="1905120"/>
          </a:xfrm>
          <a:prstGeom prst="rect">
            <a:avLst/>
          </a:prstGeom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1219320" y="2286000"/>
            <a:ext cx="1487520" cy="2209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2666880" y="1676520"/>
            <a:ext cx="1901880" cy="2855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3048120" y="4572000"/>
            <a:ext cx="1498320" cy="20923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6"/>
          <a:stretch/>
        </p:blipFill>
        <p:spPr>
          <a:xfrm>
            <a:off x="228600" y="2286000"/>
            <a:ext cx="990720" cy="17384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7"/>
          <a:stretch/>
        </p:blipFill>
        <p:spPr>
          <a:xfrm>
            <a:off x="228600" y="4495680"/>
            <a:ext cx="1143000" cy="13716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8"/>
          <a:stretch/>
        </p:blipFill>
        <p:spPr>
          <a:xfrm>
            <a:off x="1371600" y="4572000"/>
            <a:ext cx="163188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4572000" cy="83808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Image resources</a:t>
            </a: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609120"/>
            <a:ext cx="7696080" cy="441972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Tahoma"/>
                <a:hlinkClick r:id="rId2"/>
              </a:rPr>
              <a:t>http://www.flickr.com/photos/huntleylib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Tahoma"/>
                <a:hlinkClick r:id="rId3"/>
              </a:rPr>
              <a:t>http://www.flickr.com/photos/cctwebt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flickr.com/photos/storiesforchildrenmagaz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flickr.com/photos/timberline_lib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brandonmull.com/images/Beyonders-cover.jp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2.bp.blogspo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shadowmountain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4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4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4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4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4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4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4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4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4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4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4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4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4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4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1T16:02:44Z</dcterms:created>
  <dc:creator>D83  User</dc:creator>
  <dc:description/>
  <dc:language>en-US</dc:language>
  <cp:lastModifiedBy>D83  User</cp:lastModifiedBy>
  <dcterms:modified xsi:type="dcterms:W3CDTF">2010-12-09T14:57:19Z</dcterms:modified>
  <cp:revision>13</cp:revision>
  <dc:subject/>
  <dc:title>PowerPoint Presentation</dc:title>
</cp:coreProperties>
</file>